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116330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24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85800" y="6102000"/>
            <a:ext cx="116330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7040" y="269208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47040" y="6102000"/>
            <a:ext cx="56768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1880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552160" y="269208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85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61880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552160" y="6102000"/>
            <a:ext cx="3745440" cy="311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38160" y="4788000"/>
            <a:ext cx="12928680" cy="19044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95720"/>
            <a:ext cx="1163304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5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8686800"/>
            <a:ext cx="11633040" cy="635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"/>
          </a:bodyPr>
          <a:p>
            <a:pPr indent="0" algn="ctr">
              <a:lnSpc>
                <a:spcPct val="12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851040" y="520560"/>
            <a:ext cx="11277360" cy="7290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56592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5544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39536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35640" indent="-56592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75560" indent="-5655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 rot="80400">
            <a:off x="837720" y="4737240"/>
            <a:ext cx="5245200" cy="25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41308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5054760"/>
            <a:ext cx="5562720" cy="125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algn="ctr">
              <a:buClr>
                <a:srgbClr val="422e1f"/>
              </a:buClr>
              <a:buFont typeface="Bodoni SvtyTwo ITC TT-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 rot="5400000">
            <a:off x="6378120" y="214740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56120" y="2692080"/>
            <a:ext cx="556236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2692080"/>
            <a:ext cx="556272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29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78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14156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501920" indent="-46296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1861560" indent="-462600">
              <a:lnSpc>
                <a:spcPct val="12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 rot="5400000">
            <a:off x="6378120" y="3227040"/>
            <a:ext cx="6769080" cy="539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149640"/>
            <a:ext cx="11633040" cy="3441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lick to edit the title text format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5"/>
          <a:stretch/>
        </p:blipFill>
        <p:spPr>
          <a:xfrm>
            <a:off x="38160" y="1994040"/>
            <a:ext cx="12928680" cy="19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695760" y="7721640"/>
            <a:ext cx="8889840" cy="2023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266760" y="-3048120"/>
            <a:ext cx="7620120" cy="5113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685800" y="533520"/>
            <a:ext cx="11633040" cy="8686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Click to edit the outline text format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1" marL="96516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con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2" marL="14097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Third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3" marL="1854360" indent="-57168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our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4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Fif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5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ix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  <a:p>
            <a:pPr lvl="6" marL="2298600" indent="-571320">
              <a:lnSpc>
                <a:spcPct val="140000"/>
              </a:lnSpc>
              <a:spcBef>
                <a:spcPts val="2401"/>
              </a:spcBef>
              <a:buClr>
                <a:srgbClr val="422e1f"/>
              </a:buClr>
              <a:buSzPct val="155000"/>
              <a:buFont typeface="Bodoni SvtyTwo ITC TT-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2e1f"/>
                </a:solidFill>
                <a:latin typeface="Bodoni SvtyTwo ITC TT-Book"/>
              </a:rPr>
              <a:t>Seventh Outline Level</a:t>
            </a:r>
            <a:endParaRPr b="0" lang="en-US" sz="4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425320"/>
            <a:ext cx="11633040" cy="231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Structural Elements</a:t>
            </a: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  <a:ea typeface="ヒラギノ角ゴ ProN W3"/>
              </a:rPr>
              <a:t>	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5130360"/>
            <a:ext cx="11633040" cy="1320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2e1f"/>
                </a:solidFill>
                <a:latin typeface="Bodoni SvtyTwo ITC TT-Book"/>
              </a:rPr>
              <a:t>Poems, Drama, and Prose</a:t>
            </a:r>
            <a:endParaRPr b="0" lang="en-US" sz="3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5243400" y="6242040"/>
            <a:ext cx="2503440" cy="32385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9016920" y="6667560"/>
            <a:ext cx="3390840" cy="240012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tretch/>
        </p:blipFill>
        <p:spPr>
          <a:xfrm>
            <a:off x="736560" y="6197760"/>
            <a:ext cx="2057400" cy="335268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6769080" y="6845400"/>
            <a:ext cx="863640" cy="279360"/>
          </a:xfrm>
          <a:prstGeom prst="rect">
            <a:avLst/>
          </a:prstGeom>
          <a:solidFill>
            <a:srgbClr val="cbee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Dialogu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91960" y="2476080"/>
            <a:ext cx="661680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conversation in a written story or drama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7556400" y="2413080"/>
            <a:ext cx="4932360" cy="61596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8101080" y="2666880"/>
            <a:ext cx="4216320" cy="51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e Muppet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Ms. Piggy: (Point to Kermit and smile)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What ice cream flavor did you choose, Kermit?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Kermit: (Point to each scoop of ice cream)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Well, I got one  scoop of strawberry, one scoop of cotton candy, and one scoop of chocolate!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Ms. Piggy: (Disgusting look)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Wow! That doesn’t sound so good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Stage Direction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77480" y="2552760"/>
            <a:ext cx="6172200" cy="4635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Instructions about how actors should move and speak on stag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3"/>
          <a:stretch/>
        </p:blipFill>
        <p:spPr>
          <a:xfrm>
            <a:off x="7327800" y="2755800"/>
            <a:ext cx="4932360" cy="615960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7821720" y="2793960"/>
            <a:ext cx="4216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e Muppet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Ms. Piggy: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(Point to Kermit and smile)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What ice cream flavor did you choose, Kermit?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Kermit: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(Point to each scoop of ice cream)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Well, I got one  scoop of strawberry, one scoop of cotton candy, and one scoop of chocolate!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Ms. Piggy: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(Disgusting look on face)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Wow! That doesn’t sound so good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Description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72840" y="2070000"/>
            <a:ext cx="6134040" cy="6438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n account that presents a picture to a person who reads or hears it.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7594560" y="2870280"/>
            <a:ext cx="4932360" cy="61596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7981920" y="3022560"/>
            <a:ext cx="44067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Setting: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It was the Summer of 1995 at Mark’s Ice Cream Parlor.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The sky was blue, the sun was blazing, and all I could smell was a mix of different ice cream flavors. I could smell strawberries, chocolate, vanilla beans, and cotton candy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Pros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210780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Sentences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Paragraphs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6299280" y="3933720"/>
            <a:ext cx="617220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Sentence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46120" y="2654280"/>
            <a:ext cx="5727600" cy="5600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group of words that expresses a statement, and it has to have a subject and a predicate.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464160" y="3924360"/>
            <a:ext cx="626292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391520" y="2870280"/>
            <a:ext cx="4932360" cy="61596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Paragraph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06440" y="2514240"/>
            <a:ext cx="4927680" cy="539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group of at least five sentences. 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44" name=""/>
          <p:cNvSpPr/>
          <p:nvPr/>
        </p:nvSpPr>
        <p:spPr>
          <a:xfrm>
            <a:off x="7783560" y="3079800"/>
            <a:ext cx="4394160" cy="42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e Evil Food Villain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One day, an evil villain came to Tennessee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ld"/>
                <a:ea typeface="Bodoni SvtyTwo ITC TT-Bold"/>
              </a:rPr>
              <a:t>.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This evil villain was taking all the ice cream out of the Baskin Robbins, and all the popcorn out of the movie theaters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ld"/>
                <a:ea typeface="Bodoni SvtyTwo ITC TT-Bold"/>
              </a:rPr>
              <a:t>.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The citizens of Tennessee needed a superhero to take down the evil villain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ld"/>
                <a:ea typeface="Bodoni SvtyTwo ITC TT-Bold"/>
              </a:rPr>
              <a:t>.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All of a sudden, one came flying down out of the sky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ld"/>
                <a:ea typeface="Bodoni SvtyTwo ITC TT-Bold"/>
              </a:rPr>
              <a:t>.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In the end, the superhero rescued the people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ld"/>
                <a:ea typeface="Bodoni SvtyTwo ITC TT-Bold"/>
              </a:rPr>
              <a:t>.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Objective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542880" indent="-542880">
              <a:lnSpc>
                <a:spcPct val="120000"/>
              </a:lnSpc>
              <a:spcBef>
                <a:spcPts val="2401"/>
              </a:spcBef>
              <a:buSzPct val="1594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2e1f"/>
                </a:solidFill>
                <a:latin typeface="Bodoni SvtyTwo ITC TT-Book"/>
              </a:rPr>
              <a:t>Students will be able to name the structural elements of poems, drama, and prose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2880" indent="-542880">
              <a:lnSpc>
                <a:spcPct val="120000"/>
              </a:lnSpc>
              <a:spcBef>
                <a:spcPts val="2401"/>
              </a:spcBef>
              <a:buSzPct val="1594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2e1f"/>
                </a:solidFill>
                <a:latin typeface="Bodoni SvtyTwo ITC TT-Book"/>
              </a:rPr>
              <a:t>Students will be able to recognize and define the vocabulary words associated with poems, drama, and prose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2880" indent="-542880">
              <a:lnSpc>
                <a:spcPct val="120000"/>
              </a:lnSpc>
              <a:spcBef>
                <a:spcPts val="2401"/>
              </a:spcBef>
              <a:buSzPct val="1594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2e1f"/>
                </a:solidFill>
                <a:latin typeface="Bodoni SvtyTwo ITC TT-Book"/>
              </a:rPr>
              <a:t>Students will be able to explain the major differences between poems, drama, and prose.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28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42880" indent="-542880">
              <a:lnSpc>
                <a:spcPct val="120000"/>
              </a:lnSpc>
              <a:spcBef>
                <a:spcPts val="2401"/>
              </a:spcBef>
              <a:buSzPct val="1594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22e1f"/>
                </a:solidFill>
                <a:latin typeface="Bodoni SvtyTwo ITC TT-Book"/>
              </a:rPr>
              <a:t>“</a:t>
            </a:r>
            <a:r>
              <a:rPr b="0" lang="en-US" sz="3000" spc="-1" strike="noStrike">
                <a:solidFill>
                  <a:srgbClr val="422e1f"/>
                </a:solidFill>
                <a:latin typeface="Bodoni SvtyTwo ITC TT-Book"/>
              </a:rPr>
              <a:t>I can name the structural elements of poems, drama, and prose, and I can explain the major differences between poems, drama, and prose.”</a:t>
            </a:r>
            <a:endParaRPr b="0" lang="en-US" sz="30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422e1f"/>
                </a:solidFill>
                <a:latin typeface="Bodoni SvtyTwo ITC TT-Book"/>
              </a:rPr>
              <a:t>Poems</a:t>
            </a:r>
            <a:endParaRPr b="0" lang="en-US" sz="72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Verse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Rhythm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Meter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5"/>
          <a:stretch/>
        </p:blipFill>
        <p:spPr>
          <a:xfrm>
            <a:off x="6692760" y="3755880"/>
            <a:ext cx="4749840" cy="43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Verse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01160" y="2463480"/>
            <a:ext cx="829332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Groups of lines, also known as stanza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7810560" y="2233440"/>
            <a:ext cx="4940280" cy="63392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8255160" y="3130560"/>
            <a:ext cx="405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ld"/>
                <a:ea typeface="Bodoni SvtyTwo ITC TT-Bold"/>
              </a:rPr>
              <a:t>Dream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old fast to dreams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or if dreams die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ife is a broken-winged bir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at cannot fly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old fast to dream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or when dreams go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ife is a barren fiel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rozen with snow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by Langston Huge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8394840" y="5245200"/>
            <a:ext cx="3530520" cy="1930320"/>
            <a:chOff x="8394840" y="5245200"/>
            <a:chExt cx="3530520" cy="1930320"/>
          </a:xfrm>
        </p:grpSpPr>
        <p:sp>
          <p:nvSpPr>
            <p:cNvPr id="502" name=""/>
            <p:cNvSpPr/>
            <p:nvPr/>
          </p:nvSpPr>
          <p:spPr>
            <a:xfrm>
              <a:off x="8445600" y="5295960"/>
              <a:ext cx="3429000" cy="18288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22e1f"/>
                </a:solidFill>
                <a:latin typeface="Bodoni SvtyTwo ITC TT-Book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4"/>
            <a:stretch/>
          </p:blipFill>
          <p:spPr>
            <a:xfrm>
              <a:off x="8394840" y="5245200"/>
              <a:ext cx="3530520" cy="1930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Rhythm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45760" y="2108160"/>
            <a:ext cx="7467480" cy="45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The regular pattern of stress in word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7810560" y="2233440"/>
            <a:ext cx="4940280" cy="63392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8255160" y="3130560"/>
            <a:ext cx="405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ld"/>
                <a:ea typeface="Bodoni SvtyTwo ITC TT-Bold"/>
              </a:rPr>
              <a:t>Dream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o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d f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a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st t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o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dr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e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ams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o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r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 dr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e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ams d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e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e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s 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a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 br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o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k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e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n-w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nged b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i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r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a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 c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a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nnot fl</a:t>
            </a:r>
            <a:r>
              <a:rPr b="0" lang="en-US" sz="2400" spc="-1" strike="noStrike">
                <a:solidFill>
                  <a:srgbClr val="d90b00"/>
                </a:solidFill>
                <a:latin typeface="Bodoni SvtyTwo ITC TT-Book"/>
                <a:ea typeface="Bodoni SvtyTwo ITC TT-Book"/>
              </a:rPr>
              <a:t>y</a:t>
            </a: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old fast to dream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or when dreams go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ife is a barren fiel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rozen with snow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by Langston Huge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Meter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7213680" cy="5003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n organized rhythm that is repeated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7810560" y="2436840"/>
            <a:ext cx="4940280" cy="633888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8255160" y="3321000"/>
            <a:ext cx="405108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ld"/>
                <a:ea typeface="Bodoni SvtyTwo ITC TT-Bold"/>
              </a:rPr>
              <a:t>Dream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old fast to dreams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or if dreams die 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ife is a broken-winged bir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at cannot fly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Hold fast to dream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or when dreams go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Life is a barren field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Frozen with snow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by Langston Huges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Drama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2692080"/>
            <a:ext cx="11633040" cy="652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Cast of Characters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Setting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Dialogue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Stage Directions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48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2e1f"/>
                </a:solidFill>
                <a:latin typeface="Bodoni SvtyTwo ITC TT-Book"/>
              </a:rPr>
              <a:t>Descriptions</a:t>
            </a:r>
            <a:endParaRPr b="0" lang="en-US" sz="48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7"/>
          <a:stretch/>
        </p:blipFill>
        <p:spPr>
          <a:xfrm>
            <a:off x="7048440" y="3301920"/>
            <a:ext cx="530856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Cast of Characters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240" y="2349360"/>
            <a:ext cx="6350040" cy="548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A list of the characters in a drama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3"/>
          <a:stretch/>
        </p:blipFill>
        <p:spPr>
          <a:xfrm>
            <a:off x="7594560" y="2870280"/>
            <a:ext cx="4407120" cy="550224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7715160" y="3022560"/>
            <a:ext cx="4407120" cy="29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The Muppets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Ms. Piggy            Animal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Kermit                 Gonzo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Fozzie Bear        Rizzo the Rat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Lucida Grande"/>
              </a:rPr>
              <a:t>The Swedish Chef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11633040" cy="1155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422e1f"/>
                </a:solidFill>
                <a:latin typeface="Bodoni SvtyTwo ITC TT-Book"/>
              </a:rPr>
              <a:t>Setting</a:t>
            </a:r>
            <a:endParaRPr b="0" lang="en-US" sz="64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77840" y="2527200"/>
            <a:ext cx="7378560" cy="4114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401"/>
              </a:spcBef>
              <a:buSzPct val="15939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</a:rPr>
              <a:t>When and where a story takes place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7594560" y="2870280"/>
            <a:ext cx="4932360" cy="61596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058240" y="3022560"/>
            <a:ext cx="440676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Setting:</a:t>
            </a:r>
            <a:endParaRPr b="0" lang="en-US" sz="36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2e1f"/>
                </a:solidFill>
                <a:latin typeface="Bodoni SvtyTwo ITC TT-Book"/>
                <a:ea typeface="Bodoni SvtyTwo ITC TT-Book"/>
              </a:rPr>
              <a:t>It was the Summer of 1995 at Mark’s Ice Cream Parlor. The sky was blue, the sun was blazing, and all I could smell was a mix of different ice cream flavors. I could smell strawberries, chocolate, vanilla beans, and cotton candy.</a:t>
            </a: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2e1f"/>
              </a:solidFill>
              <a:latin typeface="Bodoni SvtyTwo ITC TT-Boo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