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965160" y="304560"/>
            <a:ext cx="11074320" cy="96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965160" y="6083640"/>
            <a:ext cx="1107432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39840" y="309852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6516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639840" y="6083640"/>
            <a:ext cx="54039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952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454240" y="309852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96516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70952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8454240" y="6083640"/>
            <a:ext cx="3565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5160" y="247644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5160" y="5384880"/>
            <a:ext cx="11074320" cy="1409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body"/>
          </p:nvPr>
        </p:nvSpPr>
        <p:spPr>
          <a:xfrm>
            <a:off x="965160" y="1320480"/>
            <a:ext cx="11074320" cy="711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657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72000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11996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51992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920240" indent="-365760">
              <a:spcBef>
                <a:spcPts val="4799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85920" indent="-3859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808200" indent="-3859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1230480" indent="-3859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652760" indent="-3859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2075040" indent="-3859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2075040" indent="-385920">
              <a:spcBef>
                <a:spcPts val="95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2075040" indent="-385920">
              <a:spcBef>
                <a:spcPts val="95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004640" cy="2476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028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2000"/>
          </a:bodyPr>
          <a:p>
            <a:pPr marL="2923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1" marL="57600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2" marL="89604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3" marL="121608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4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5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lvl="6" marL="1536120" indent="-292320">
              <a:spcBef>
                <a:spcPts val="3200"/>
              </a:spcBef>
              <a:buClr>
                <a:srgbClr val="ae2b21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65160" y="341640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0" y="2128680"/>
            <a:ext cx="11733120" cy="6685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3492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1" marL="68796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2" marL="107028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3" marL="145260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4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5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  <a:p>
            <a:pPr lvl="6" marL="1834920" indent="-349200">
              <a:spcBef>
                <a:spcPts val="3200"/>
              </a:spcBef>
              <a:buClr>
                <a:srgbClr val="ebcd9c"/>
              </a:buClr>
              <a:buSzPct val="56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1440" y="6716880"/>
            <a:ext cx="11712600" cy="6858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65160" y="6477120"/>
            <a:ext cx="110743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65160" y="8292600"/>
            <a:ext cx="110743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1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2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3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4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5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  <a:p>
            <a:pPr lvl="6" algn="ctr">
              <a:buClr>
                <a:srgbClr val="ebcd9c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cd9c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ebcd9c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listenlearnmusic.com/2008/11/everyone-is-doing-maraca-rock.html" TargetMode="External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www.history.com/topics/cinco-de-mayo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65160" y="1015920"/>
            <a:ext cx="11074320" cy="292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Cinco de mayo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65160" y="4000320"/>
            <a:ext cx="11074320" cy="1409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bcd9c"/>
                </a:solidFill>
                <a:latin typeface="Gill Sans"/>
              </a:rPr>
              <a:t>By: Haleigh Baker</a:t>
            </a:r>
            <a:endParaRPr b="0" lang="en-US" sz="3800" spc="-1" strike="noStrike">
              <a:solidFill>
                <a:srgbClr val="ebcd9c"/>
              </a:solidFill>
              <a:latin typeface="Gill Sans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7866000" y="5468760"/>
            <a:ext cx="4635720" cy="357372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20560" y="5473800"/>
            <a:ext cx="431964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What is cinco de mayo?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4720" y="1345680"/>
            <a:ext cx="6337440" cy="9423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On the fifth of May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Commemorates the Mexican army’s 1862 victory over France at the Battle of Puebla during the Franco-Mexican War.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Relatively minor holiday in Mexico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In the United States it is a celebration of Mexican culture and heritage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6"/>
          <a:stretch/>
        </p:blipFill>
        <p:spPr>
          <a:xfrm>
            <a:off x="7378560" y="3822840"/>
            <a:ext cx="54244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How is cinco de mayo celebrated?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680" y="7999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Parades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Street Festivals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Mariachi Music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7589880" y="2730600"/>
            <a:ext cx="4952880" cy="33033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658280" y="6375240"/>
            <a:ext cx="4825800" cy="30132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863640" y="5562720"/>
            <a:ext cx="5676840" cy="37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Mariachi music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0" y="1650600"/>
            <a:ext cx="6006960" cy="6845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A form of folk music from Mexico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Originally only played with string instruments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oday, usually consist of as many as 8 violins, 2 trumpets, at least 1 guitar,  and maracas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5"/>
          <a:stretch/>
        </p:blipFill>
        <p:spPr>
          <a:xfrm>
            <a:off x="6426360" y="2489040"/>
            <a:ext cx="5105160" cy="3243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6"/>
          <a:stretch/>
        </p:blipFill>
        <p:spPr>
          <a:xfrm>
            <a:off x="5575320" y="5931000"/>
            <a:ext cx="2095560" cy="38732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7"/>
          <a:stretch/>
        </p:blipFill>
        <p:spPr>
          <a:xfrm>
            <a:off x="7746840" y="5969160"/>
            <a:ext cx="596916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What are maracas?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06440" y="1345680"/>
            <a:ext cx="6502320" cy="7417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A percussion instrument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May have originated among several ancient civilizations during the Stone Age period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The use of maracas has been traced through the artwork of pre-Columbian Indians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5"/>
          <a:stretch/>
        </p:blipFill>
        <p:spPr>
          <a:xfrm>
            <a:off x="8481960" y="6248520"/>
            <a:ext cx="2543400" cy="328932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6"/>
          <a:stretch/>
        </p:blipFill>
        <p:spPr>
          <a:xfrm>
            <a:off x="9570960" y="2603520"/>
            <a:ext cx="2963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Mexican Art:</a:t>
            </a:r>
            <a:br>
              <a:rPr sz="6400"/>
            </a:b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Linear pattern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596880" y="2489040"/>
            <a:ext cx="3036960" cy="3797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4432320" y="2590920"/>
            <a:ext cx="3594240" cy="359388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4"/>
          <a:stretch/>
        </p:blipFill>
        <p:spPr>
          <a:xfrm>
            <a:off x="8826480" y="2552760"/>
            <a:ext cx="3594240" cy="35938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5"/>
          <a:stretch/>
        </p:blipFill>
        <p:spPr>
          <a:xfrm>
            <a:off x="252360" y="6607080"/>
            <a:ext cx="3746520" cy="37512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6"/>
          <a:stretch/>
        </p:blipFill>
        <p:spPr>
          <a:xfrm>
            <a:off x="4319640" y="6419880"/>
            <a:ext cx="4044960" cy="337824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7"/>
          <a:stretch/>
        </p:blipFill>
        <p:spPr>
          <a:xfrm>
            <a:off x="8953560" y="6311880"/>
            <a:ext cx="359388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Let’s Play our Maracas!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5029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listenlearnmusic.com/2008/11/everyone-is-doing-maraca-rock.html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7759800" y="2755800"/>
            <a:ext cx="421632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65160" y="304560"/>
            <a:ext cx="11074320" cy="208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ececec"/>
                </a:solidFill>
                <a:latin typeface="Gill Sans"/>
              </a:rPr>
              <a:t>Resources</a:t>
            </a:r>
            <a:endParaRPr b="0" lang="en-US" sz="6400" spc="-1" strike="noStrike">
              <a:solidFill>
                <a:srgbClr val="ececec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65160" y="3098520"/>
            <a:ext cx="110743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http://www.history.com/topics/cinco-de-mayo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http://www.madehow.com/Volume-7/Maracas.html#b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ae2b21"/>
                </a:solidFill>
                <a:uFillTx/>
                <a:latin typeface="Gill Sans"/>
              </a:rPr>
              <a:t>http://taloolakids.com/paper-bag-maracas/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  <a:p>
            <a:pPr marL="406440" indent="-406440">
              <a:lnSpc>
                <a:spcPct val="100000"/>
              </a:lnSpc>
              <a:spcBef>
                <a:spcPts val="32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ae2b21"/>
                </a:solidFill>
                <a:latin typeface="Gill Sans"/>
              </a:rPr>
              <a:t>http://en.wikipedia.org/wiki/Mariachi#Bands</a:t>
            </a:r>
            <a:endParaRPr b="0" lang="en-US" sz="3800" spc="-1" strike="noStrike">
              <a:solidFill>
                <a:srgbClr val="ae2b21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